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805C-0829-415C-AA0D-B02CB3EF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03D4-40B3-4C22-B5CE-FE8B7A92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B77A8-7CB1-4C12-87A1-0608E67A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F2D9-2FF7-43A1-88AE-F050EE09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4073-D171-4B95-8268-00E74249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9652-E9BF-4E97-BA4D-1EB1E9DD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F7FA-E3D2-4A25-A982-77A43077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398C-D093-4B3A-8224-259444ED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3D08-6EDE-4206-BF48-28DA909A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9CA0-9702-4B09-8F95-27CFC18B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A01F-BEA4-4AD4-A7B5-51992355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ED83E-034F-49B8-817E-22F0D4B1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21CD-414D-48B2-90FC-B808BE66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7B86-FCFA-45B2-ACF7-AFBAB758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FEFC-0AC7-485D-8DFC-718B3C4A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F018-D70F-44B8-8B06-0742C85E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C300-6E52-4C3D-9923-9AEECDA4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FDB16-0C6D-4DD7-8110-59F972EF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22F3-9126-4939-A736-C29F3488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C0296-EB6E-43DF-A088-1196BCE4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669F3-2FB5-48C7-98CF-3CF810F0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3425D-C31B-4DA5-AB4F-7B26AA79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7FFC-56F9-4C88-BFEF-9BF873B2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3971F-161D-4591-8C43-571EEDA3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6574-F5D9-4BE6-91D7-36BC7DFCCC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B303-8DD7-48B5-B10C-4D83CCC2634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l cine de bourque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 justin bour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Grand apertura!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La pelicula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se llama la Green Zone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La sesion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es a las 1:30 - 3:00. el principal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actor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el film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es matt damon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Las entrada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son 5 dolares.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Una </a:t>
            </a:r>
            <a:r>
              <a:rPr b="0" i="1" lang="es-ES" sz="1400" spc="-1" strike="noStrike">
                <a:solidFill>
                  <a:srgbClr val="ffffff"/>
                </a:solidFill>
                <a:latin typeface="Verdana"/>
              </a:rPr>
              <a:t>versión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en español de 03:00-04:30. Se habla espanol aqui. </a:t>
            </a:r>
            <a:r>
              <a:rPr b="0" i="1" lang="es-ES" sz="1400" spc="-1" strike="noStrike">
                <a:solidFill>
                  <a:srgbClr val="ffffff"/>
                </a:solidFill>
                <a:latin typeface="Verdana"/>
              </a:rPr>
              <a:t>Las butacas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son buenas aqui. La comida es muy buena. Tenemos alimentos y bebemos.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tenemos un McDonalds en el vestíbulo. </a:t>
            </a:r>
            <a:r>
              <a:rPr b="0" i="1" lang="es-ES" sz="1400" spc="-1" strike="noStrike">
                <a:solidFill>
                  <a:srgbClr val="ffffff"/>
                </a:solidFill>
                <a:latin typeface="Tahoma"/>
              </a:rPr>
              <a:t>La pantalla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es muy grande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tarjetas de regalo están disponibles en el vestíbu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n contacto con nosotros 1-555-436-889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Tenemos una estacion de autob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no se olvide de salir a coger el autobús a las 3:0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3962520"/>
            <a:ext cx="3848040" cy="2057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33520" y="533520"/>
            <a:ext cx="165708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Rounded MT Bold"/>
              </a:rPr>
              <a:t>el cine de bourque!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43600" y="762120"/>
            <a:ext cx="190512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l cine de bourque!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72240" y="2027160"/>
            <a:ext cx="17892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6:32:39Z</dcterms:created>
  <dc:creator>bourquejus</dc:creator>
  <dc:description/>
  <dc:language>en-US</dc:language>
  <cp:lastModifiedBy>bourquejus</cp:lastModifiedBy>
  <dcterms:modified xsi:type="dcterms:W3CDTF">2011-12-22T15:51:11Z</dcterms:modified>
  <cp:revision>8</cp:revision>
  <dc:subject/>
  <dc:title>Slide 1</dc:title>
</cp:coreProperties>
</file>